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3" descr="sqds qdsqger ege 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age </a:t>
            </a:r>
            <a:fld id="{9D3FAC6E-27DF-49F4-B4FD-38F477030CDC}" type="slidenum">
              <a:rPr b="1" lang="fr-FR" sz="1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8" descr="igjdf jgdfger 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108000" y="115920"/>
            <a:ext cx="903600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Verdana"/>
              </a:rPr>
              <a:t>4.10 Ethica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Verdana"/>
              </a:rPr>
              <a:t>Presu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Verdana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Verdana"/>
              </a:rPr>
              <a:t>Infor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fter reading the articles that present both “yes” and “no” opinions on whether presumed consent is the answer to organ shortages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rite a support argument for the position you think would be best for greater results for organ do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25092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900000" y="1989000"/>
            <a:ext cx="741708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hart 1" descr=""/>
          <p:cNvPicPr/>
          <p:nvPr/>
        </p:nvPicPr>
        <p:blipFill>
          <a:blip r:embed="rId1"/>
          <a:stretch/>
        </p:blipFill>
        <p:spPr>
          <a:xfrm>
            <a:off x="0" y="1395360"/>
            <a:ext cx="9144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56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1219320" y="3749760"/>
            <a:ext cx="1365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56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Among the entire Canadian population, virtually everybody is in favor of organ donation (94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Despite the almost universal approval, only about half of all Canadians have signed a donor card or carry documentation that indicates they are willing to donate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ome countries have adopted a policy known as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Presu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his means that the government assumes that you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 want to donate organs after your death unless you have specifically indicated that you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 wish to d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Among those countries their donation rates are 25-30% higher that countries that have infor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In Canada, people are asked to sign a donor card or indicate their wishes on a registry; final consent for donation rests with th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Jason</cp:lastModifiedBy>
  <dcterms:modified xsi:type="dcterms:W3CDTF">2010-11-22T18:57:46Z</dcterms:modified>
  <cp:revision>31</cp:revision>
  <dc:subject/>
  <dc:title>Bubble Water Flow</dc:title>
</cp:coreProperties>
</file>